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D04-9F08-466A-85C3-914DA6FA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786-2084-4349-A270-3C92589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309-5C49-47C7-AA3F-66C564DD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465-9E68-49FE-A84E-F8535793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2C11-6946-4EC3-9B18-79A2605E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15B5-72C2-4ACA-A62E-FE415BF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0B2-1A5F-428C-8A0F-3454118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264-C520-45D6-B453-975B3AF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5E9-B67A-45CB-A295-50B2CD41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CA38-B986-4005-AA5E-BA01711C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EB0E-79F1-4D97-AC88-47FC686F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EAC-B114-46FB-B26F-0EF5CAE3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D638-2653-4BDD-8535-754F4CB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9A56-A3E8-4ACB-9C5F-10C78A0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FAD-2EAA-4521-9809-142B93B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37C6-D639-4DDE-B522-66C1D12B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1F19-DC61-4122-A424-A743D5F9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CA3-9C6F-4532-B261-288C04CC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619-C0CC-4BAA-9049-3CE1EEF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65B-1B24-4C99-A63E-4E1A44F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18F-498E-4BF2-9C85-32C8EE1D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46A-BCD7-4C15-A7A6-50F01B9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A7E-72BD-447A-BB29-2AC3FAE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921-3233-44DD-A47C-D8CC1D0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981-08C1-4297-8EBF-748305D3B3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E49-3192-4C68-8501-4A5D3E446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ve You Retai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0" y="609480"/>
            <a:ext cx="4667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rter 3, Lesson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e Days of the Judg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lag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Stubborn Will of Pharo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gue: Death of First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Angel Passes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over Feast Memo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Egypt To Sina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Deliverance At Red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ptized Unto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g of Victory And Glory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tter Waters Made Sw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al At The Mount of God: Horeb /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ESOME GOD COMES DOWN UPON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d Makes A Covena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grees To Do All God S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n Command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bernacle: God Dwelling Among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aronic Priesthood: Lev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of Sacri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s For Cleanliness &amp; Hol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om Sinai To Kades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Food &amp;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Aaronic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aints About Inability To Take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obedience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gnment To 40 Year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nd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dged In By Fear of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Years To Go Nowhere Desi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eneration Hands Down Poor Examples In Fa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 The Plains of Mo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k, King of Moab Wants Balaam To Curse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 Enticed To Sin At Baal-Pe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nication and 24,000 F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ating The Midian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ing Moses’ Successor: Josh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uben &amp; Gad Get Their Inheritance E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Cities of Refu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teronomy: Moses’ Spee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ings and Curses: Obedience / Dis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g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M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urney’s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ing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ies In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ime To Take The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of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Years of Wandering Now Clo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Now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mised Land Is Befor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 Is Assured That God Will Be With Him In His Leadership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The Soldiers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Win Great Battles With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Ready To Lose Witho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jor Point 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erness 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e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m &amp; 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Into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is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ns, Hardship,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in &amp; A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ceptable Wo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alousy / Mu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lo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ly Sinful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 Finds 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ed To Build 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 Destroys All Land-Dwelling Air Br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nimals In Ark Would Repopu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ht Souls Saved Throug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atter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ah’s Three Sons: Shem, Ham, Japhe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scendants Trying To Keep Population In On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ower of Babel For Corrupt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onfounds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s Divide According To Language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ead of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By God Out of Ur of Chal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A Land God Would Show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ather A “Great N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ring The Whole World A “Blessing” (Jes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ed To Typify The Sacrificial 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ing To Come Through Son, Isa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of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nue of the Promises to Abra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anter of Es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fied Church Supplanting National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l – House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nue of the Prom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arch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Is Named “Isra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 of Isra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, Simeon, Levi, Judah, Gad, Da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achar, Zebulun, Naphtali, Asher, Joseph, Benja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Carries Messianic 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Saves Family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ll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Generations /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Baby Moses Was Sa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Prestige In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Flees To Midian For 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From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ion: Delivering Israel From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3:48:05Z</dcterms:created>
  <dc:creator>Terry W. Benton</dc:creator>
  <dc:description/>
  <dc:language>en-US</dc:language>
  <cp:lastModifiedBy>Don Vines</cp:lastModifiedBy>
  <dcterms:modified xsi:type="dcterms:W3CDTF">2004-12-31T15:37:56Z</dcterms:modified>
  <cp:revision>6</cp:revision>
  <dc:subject/>
  <dc:title>Summary</dc:title>
</cp:coreProperties>
</file>